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E41-7A48-438F-BFC9-B876C626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CB7-664E-4E27-9D18-B283004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967-026F-41CF-B2DC-A6061A8A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B6C-087E-424F-9F21-743ABADC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7FC-4922-478E-9922-007A3A3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509-7D6F-411F-91FF-C367E996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56C-C425-4E7D-8850-E5A9932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C1C-DFB6-41B7-A1A1-EDB10CD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708-EAE1-4C68-9782-87606199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CF9-0E7C-4A66-A37F-71617C7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3B7-5E22-4C1C-ABB0-972FC2D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2BF-5EFF-4579-97A4-FEA6BC5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D621-8256-41B8-9F1B-292914CA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95560" y="-2286000"/>
            <a:ext cx="13335120" cy="1143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48360" y="-1395360"/>
            <a:ext cx="4390920" cy="43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80360" y="3716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835280" y="2852640"/>
            <a:ext cx="1412640" cy="243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835280" y="-365040"/>
            <a:ext cx="2232000" cy="152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12400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4000" y="5013360"/>
            <a:ext cx="273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0.08489 L 0.29288 0.1374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0.0421 L -0.29132 0.0421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4173E-006 C 0.06824 0.00763 0.13646 0.01526 0.17414 0.04418 C 0.21181 0.07286 0.20192 0.15753 0.22587 0.17441 C 0.24983 0.19107 0.29532 0.13393 0.31771 0.14596 C 0.34011 0.15845 0.33438 0.23941 0.36008 0.24797 C 0.38577 0.2563 0.43178 0.18737 0.47188 0.19593 C 0.51199 0.20472 0.56285 0.33426 0.60122 0.30118 C 0.63959 0.26787 0.69428 0.06662 0.70244 -0.0044 C 0.7106 -0.07565 0.6764 -0.09485 0.6507 -0.12677 C 0.62501 -0.15869 0.60278 -0.18529 0.54827 -0.1957 C 0.49376 -0.20611 0.39428 -0.19061 0.32362 -0.18946 C 0.25296 -0.1883 0.20903 -0.21837 0.12466 -0.18946 C 0.04028 -0.16054 -0.13038 -0.04234 -0.18229 -0.01527 C -0.2342 0.01156 -0.21058 -0.00833 -0.18697 -0.02822 E">
                                      <p:cBhvr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113E-008 C -0.07726 0.01989 -0.15451 0.03978 -0.18715 0.05505 C -0.21979 0.07032 -0.20122 0.07726 -0.19531 0.0909 C -0.18941 0.10455 -0.16059 0.1182 -0.15191 0.13648 C -0.14323 0.15475 -0.14184 0.18875 -0.14358 0.20078 C -0.14531 0.21281 -0.15764 0.20286 -0.1625 0.20865 C -0.16736 0.21443 -0.17205 0.22646 -0.17309 0.23525 C -0.17413 0.24404 -0.17101 0.25445 -0.16823 0.26185 C -0.16545 0.26925 -0.16111 0.27411 -0.1566 0.2792 E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3959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05112 L 0.33663 0.05112 E">
                                      <p:cBhvr>
                                        <p:cTn id="3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7:06:46Z</dcterms:created>
  <dc:creator>студент</dc:creator>
  <dc:description/>
  <dc:language>en-US</dc:language>
  <cp:lastModifiedBy>студент</cp:lastModifiedBy>
  <dcterms:modified xsi:type="dcterms:W3CDTF">2012-10-11T07:26:36Z</dcterms:modified>
  <cp:revision>2</cp:revision>
  <dc:subject/>
  <dc:title>Слайд 1</dc:title>
</cp:coreProperties>
</file>